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ahoma"/>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ACA9-A830-4638-94B1-39898A841F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s/slide9.xml"/><Relationship Id="rId6"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a:solidFill>
                  <a:srgbClr val="000000"/>
                </a:solidFill>
                <a:latin typeface="Tahoma"/>
              </a:rPr>
              <a:t>6.171 straipsnis. </a:t>
            </a:r>
            <a:r>
              <a:rPr b="0" lang="lt-LT" sz="1200" spc="-1" strike="noStrike">
                <a:solidFill>
                  <a:srgbClr val="000000"/>
                </a:solidFill>
                <a:latin typeface="Tahoma"/>
              </a:rPr>
              <a:t>Viešoji oferta 1. Viešąja oferta laikomas visiems skirtas pasiūlymas sudaryti sutartį, taip pat prekių pažymėtomis kainomis išdėstymas parduotuvės vitrinoje ar lentynoje arba atlyginimo pažadėjimas už tam tikrų veiksmų atlikimą. 2. Viešoji oferta, atšaukta tokia pat forma, kaip buvo pareikšta, tampa negaliojanti, nors apie jos atšaukimą sužinojo ne visi asmenys, kuriems oferta buvo žinoma. 3. Viešąja oferta nelaikomi kainoraščiai, prospektai, katalogai, tarifai ir kita informacinė medžiaga, išskyrus įstatymų nustatytas išimti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ahoma"/>
              </a:rPr>
              <a:t>JUNGTINIŲ TAUTŲ KONVENCIJA DĖL </a:t>
            </a:r>
            <a:r>
              <a:rPr b="0" lang="lt-LT" sz="1200" spc="-1" strike="noStrike" u="sng">
                <a:solidFill>
                  <a:srgbClr val="ccccff"/>
                </a:solidFill>
                <a:uFillTx/>
                <a:latin typeface="Tahoma"/>
                <a:hlinkClick r:id="rId1" action="ppaction://hlinksldjump"/>
              </a:rPr>
              <a:t>TARPTAUTINIO</a:t>
            </a:r>
            <a:r>
              <a:rPr b="0" lang="lt-LT" sz="1200" spc="-1" strike="noStrike">
                <a:solidFill>
                  <a:srgbClr val="000000"/>
                </a:solidFill>
                <a:latin typeface="Tahoma"/>
              </a:rPr>
              <a:t> </a:t>
            </a:r>
            <a:r>
              <a:rPr b="0" lang="lt-LT" sz="1200" spc="-1" strike="noStrike" u="sng">
                <a:solidFill>
                  <a:srgbClr val="ccccff"/>
                </a:solidFill>
                <a:uFillTx/>
                <a:latin typeface="Tahoma"/>
                <a:hlinkClick r:id="rId2" action="ppaction://hlinksldjump"/>
              </a:rPr>
              <a:t>PREKIŲ</a:t>
            </a:r>
            <a:r>
              <a:rPr b="0" lang="lt-LT" sz="1200" spc="-1" strike="noStrike">
                <a:solidFill>
                  <a:srgbClr val="000000"/>
                </a:solidFill>
                <a:latin typeface="Tahoma"/>
              </a:rPr>
              <a:t> </a:t>
            </a:r>
            <a:r>
              <a:rPr b="0" lang="lt-LT" sz="1200" spc="-1" strike="noStrike" u="sng">
                <a:solidFill>
                  <a:srgbClr val="ccccff"/>
                </a:solidFill>
                <a:uFillTx/>
                <a:latin typeface="Tahoma"/>
                <a:hlinkClick r:id="rId3" action="ppaction://hlinksldjump"/>
              </a:rPr>
              <a:t>PIRKIMO</a:t>
            </a:r>
            <a:r>
              <a:rPr b="0" lang="lt-LT" sz="1200" spc="-1" strike="noStrike">
                <a:solidFill>
                  <a:srgbClr val="000000"/>
                </a:solidFill>
                <a:latin typeface="Tahoma"/>
              </a:rPr>
              <a:t> - </a:t>
            </a:r>
            <a:r>
              <a:rPr b="0" lang="lt-LT" sz="1200" spc="-1" strike="noStrike" u="sng">
                <a:solidFill>
                  <a:srgbClr val="ccccff"/>
                </a:solidFill>
                <a:uFillTx/>
                <a:latin typeface="Tahoma"/>
                <a:hlinkClick r:id="rId4" action="ppaction://hlinksldjump"/>
              </a:rPr>
              <a:t>PARDAVIMO</a:t>
            </a:r>
            <a:r>
              <a:rPr b="0" lang="lt-LT" sz="1200" spc="-1" strike="noStrike">
                <a:solidFill>
                  <a:srgbClr val="000000"/>
                </a:solidFill>
                <a:latin typeface="Tahoma"/>
              </a:rPr>
              <a:t> SUTARČIŲ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ahoma"/>
              </a:rPr>
              <a:t>14 straipsnis</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68774-9495-416B-ACFA-5FD05BDEE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3E044-C47D-4D1C-8895-4415910C6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524C2-0BAF-4695-900D-DF72E2208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37F1F-E9C3-4507-B5A5-5B2B18A18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6101A-DC31-4A87-AB1D-801F83D70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B8DA6-000E-458F-BF17-11667AA59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A330D-0BBC-48D4-9F32-3FC687064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3CEB8-A4F1-4E5B-BA4D-4FA93641F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847F1-700C-41A5-B035-FC2DB700D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9F639-3BFF-45DB-B68A-5B78714BF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89681-6CCD-4667-B157-969B0AB8E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B1D9D-FE30-4E51-9D10-0B1C91665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372DE-AA59-4AA0-9E5A-90D535090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9CBDA-66C4-4A21-8A18-B1BE9E2D0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66910-A06A-4893-BE20-230365710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E77E2-2A25-4DF5-B31A-4CF463A2F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7E8F6-78A5-4E4E-B25C-5544B6F04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3B28B-6F8A-40A1-913D-25B5F988A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23806-5DC8-443E-9476-0B8656129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C11B4-8319-442A-972C-2BA8819AE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785B3-F25F-47F9-AFD1-15B2C3BDA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8067B-0A7F-40C3-AA23-07E8A1A03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DB501-C68E-44A9-82DD-8EB9BB860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946FA-B514-4FB0-BA2A-2926BECCC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D162-B497-4392-9757-7969753E4A4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056B-4B09-4EDD-B788-B328582180D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 sutarti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is sudaryta nuo akcepto gavimo, jei sutartyje nenumatyta kitaip</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K 1.181 </a:t>
            </a:r>
            <a:r>
              <a:rPr b="0" lang="lt-LT" sz="2400" spc="-1" strike="noStrike">
                <a:solidFill>
                  <a:srgbClr val="003366"/>
                </a:solidFill>
                <a:latin typeface="Arial"/>
              </a:rPr>
              <a:t>straipsn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ies sudarymo vieta – oferento gyvenamoji ar verslo vie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K </a:t>
            </a:r>
            <a:r>
              <a:rPr b="0" lang="en-US" sz="2400" spc="-1" strike="noStrike">
                <a:solidFill>
                  <a:srgbClr val="003366"/>
                </a:solidFill>
                <a:latin typeface="Arial"/>
              </a:rPr>
              <a:t>1.69</a:t>
            </a:r>
            <a:r>
              <a:rPr b="0" lang="lt-LT" sz="2400" spc="-1" strike="noStrike">
                <a:solidFill>
                  <a:srgbClr val="003366"/>
                </a:solidFill>
                <a:latin typeface="Arial"/>
              </a:rPr>
              <a:t>, </a:t>
            </a:r>
            <a:r>
              <a:rPr b="0" lang="en-US" sz="2400" spc="-1" strike="noStrike">
                <a:solidFill>
                  <a:srgbClr val="003366"/>
                </a:solidFill>
                <a:latin typeface="Arial"/>
              </a:rPr>
              <a:t>6.181 </a:t>
            </a:r>
            <a:r>
              <a:rPr b="0" lang="lt-LT" sz="2400" spc="-1" strike="noStrike">
                <a:solidFill>
                  <a:srgbClr val="003366"/>
                </a:solidFill>
                <a:latin typeface="Arial"/>
              </a:rPr>
              <a:t>straipsni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vimo moment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cepcijos teorija</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anešimas įsigalioja kai gavėjas realiai gavo pranešimą ar jis tapo prieinamas, nors jis dar nėra sužinojęs jo turinio</a:t>
            </a:r>
            <a:r>
              <a:rPr b="0" lang="en-US" sz="2400" spc="-1" strike="noStrike">
                <a:solidFill>
                  <a:srgbClr val="003366"/>
                </a:solidFill>
                <a:latin typeface="Arial"/>
              </a:rPr>
              <a:t> </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ėjimo teorija - pranešimo įsigaliojimo momentas-kai pranešimas tapo prieinamas gavėjui, t.y. pateko į jo dispoziciją tokioje vietoje</a:t>
            </a:r>
            <a:r>
              <a:rPr b="0" lang="en-US" sz="2400" spc="-1" strike="noStrike">
                <a:solidFill>
                  <a:srgbClr val="003366"/>
                </a:solidFill>
                <a:latin typeface="Arial"/>
              </a:rPr>
              <a:t>,</a:t>
            </a:r>
            <a:r>
              <a:rPr b="0" lang="lt-LT" sz="2400" spc="-1" strike="noStrike">
                <a:solidFill>
                  <a:srgbClr val="003366"/>
                </a:solidFill>
                <a:latin typeface="Arial"/>
              </a:rPr>
              <a:t> kurioje gavėjas protingai įprastoje verslo eigoje tikisi gauti tokio pobūdžio pranešim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vimo momen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itos teorijo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formacinė (sužinojimo momenta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što dėžutės (išsiuntimo momentas)</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Formulavimo teorija (pranešimo (atsakymo) formulavimo moment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cepcijos teorija pagal UNCITR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ei gavėjas yra paskyręs konkrečią informacinę sistemą gavimas yra kai:</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uomenų pranešimas įeina į paskirtą informacinę sistemą;</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Jei duomenų pranešimas nusiųstas į kitą informacinę sistemą – kai gavėjas paima jį iš informacinės sistemos</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ei nėra paskyręs konkrečios informacinės sistemos – gavimas - kai duomenų pranešimas įeina į gavėjo informacinę sistem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IVPĮ</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2. Pasiūlymas sudaryti sutartį (oferta) ir (ar) pateikto pasiūlymo sudaryti sutartį priėmimas (akceptas) laikomi išsiųstais, kai šalis ar jos atstovas, </a:t>
            </a:r>
            <a:r>
              <a:rPr b="1" lang="lt-LT" sz="2000" spc="-1" strike="noStrike">
                <a:solidFill>
                  <a:srgbClr val="003366"/>
                </a:solidFill>
                <a:latin typeface="Arial"/>
              </a:rPr>
              <a:t>kurie juos išsiuntė, nebegali jų pasiekti ir kontroliuoti</a:t>
            </a:r>
            <a:r>
              <a:rPr b="0" lang="lt-LT"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3. Pasiūlymas sudaryti sutartį (oferta) ir (ar) pateikto pasiūlymo sudaryti sutartį priėmimas (akceptas) laikomi gautais, </a:t>
            </a:r>
            <a:r>
              <a:rPr b="1" lang="lt-LT" sz="2000" spc="-1" strike="noStrike">
                <a:solidFill>
                  <a:srgbClr val="003366"/>
                </a:solidFill>
                <a:latin typeface="Arial"/>
              </a:rPr>
              <a:t>kai šalis, kuriai jie skirti, gali juos pasiekti</a:t>
            </a:r>
            <a:r>
              <a:rPr b="0" lang="lt-LT"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4. Pasiūlymas sudaryti sutartį (oferta) ir (ar) pateikto pasiūlymo sudaryti sutartį priėmimas (akceptas) laikomi </a:t>
            </a:r>
            <a:r>
              <a:rPr b="1" lang="lt-LT" sz="2000" spc="-1" strike="noStrike">
                <a:solidFill>
                  <a:srgbClr val="003366"/>
                </a:solidFill>
                <a:latin typeface="Arial"/>
              </a:rPr>
              <a:t>išsiųstais ir (ar) gautais</a:t>
            </a:r>
            <a:r>
              <a:rPr b="0" lang="lt-LT" sz="2000" spc="-1" strike="noStrike">
                <a:solidFill>
                  <a:srgbClr val="003366"/>
                </a:solidFill>
                <a:latin typeface="Arial"/>
              </a:rPr>
              <a:t> pasiūlymą sudaryti sutartį pateikusios šalies (oferento) ir (ar) pasiūlymą sudaryti sutartį priėmusios šalies (akceptanto) </a:t>
            </a:r>
            <a:r>
              <a:rPr b="1" lang="lt-LT" sz="2000" spc="-1" strike="noStrike">
                <a:solidFill>
                  <a:srgbClr val="003366"/>
                </a:solidFill>
                <a:latin typeface="Arial"/>
              </a:rPr>
              <a:t>gyvenamojoje arba verslo vietoje.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 – “Click-Wrap”</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s kreipties režime sudaromi susitarimai, kai naudotojo sutikimas su sutarties sąlygomis išreiškiamas pelės spustelėjim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darymas – “Browse-Wrap”</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s kreipties režime sudaromi susitarimai, kai veiksmas (pvz., mygtuko paspaudimas), įgalinantis pradėti sutarties vykdymą (pvz., produkto atsiuntimą) laikomas pakankamu naudotojo valios išreiškim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š esmės yra konkliudentiniais veiksmais sudaryti susitarim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K </a:t>
            </a:r>
            <a:r>
              <a:rPr b="0" lang="en-US" sz="2800" spc="-1" strike="noStrike">
                <a:solidFill>
                  <a:srgbClr val="003366"/>
                </a:solidFill>
                <a:latin typeface="Arial"/>
              </a:rPr>
              <a:t>6.185 </a:t>
            </a:r>
            <a:r>
              <a:rPr b="0" lang="lt-LT" sz="2800" spc="-1" strike="noStrike">
                <a:solidFill>
                  <a:srgbClr val="003366"/>
                </a:solidFill>
                <a:latin typeface="Arial"/>
              </a:rPr>
              <a:t>str. </a:t>
            </a:r>
            <a:r>
              <a:rPr b="0" lang="en-US" sz="2800" spc="-1" strike="noStrike">
                <a:solidFill>
                  <a:srgbClr val="003366"/>
                </a:solidFill>
                <a:latin typeface="Arial"/>
              </a:rPr>
              <a:t>1 </a:t>
            </a:r>
            <a:r>
              <a:rPr b="0" lang="lt-LT" sz="2800" spc="-1" strike="noStrike">
                <a:solidFill>
                  <a:srgbClr val="003366"/>
                </a:solidFill>
                <a:latin typeface="Arial"/>
              </a:rPr>
              <a:t>d. sutarčių standartinės sąlygos – sąlygos, kurias bendram nevienkartiniam naudojimui iš anksto parengia viena šalis nederindama jų su kita šalimi ir kurios be derybų su kita šalimi taikomos sudaromose sutarty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K 6.185 str. 2 d. reikalauja, kad sutarties standartinės sąlygos privalomos kitai šaliai tik tuo atveju, jeigu jai buvo sudaryta </a:t>
            </a:r>
            <a:r>
              <a:rPr b="1" lang="lt-LT" sz="2400" spc="-1" strike="noStrike">
                <a:solidFill>
                  <a:srgbClr val="003366"/>
                </a:solidFill>
                <a:latin typeface="Arial"/>
              </a:rPr>
              <a:t>tinkama</a:t>
            </a:r>
            <a:r>
              <a:rPr b="0" lang="lt-LT" sz="2400" spc="-1" strike="noStrike">
                <a:solidFill>
                  <a:srgbClr val="003366"/>
                </a:solidFill>
                <a:latin typeface="Arial"/>
              </a:rPr>
              <a:t> galimybė su tomis sąlygomis susipažinti. Jei abi šalys verslininkai, tinkama:</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ąlygų įteikimas raštu iki sutarties pasirašymo ar ją pasiraša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ki sutarties pasirašymo pranešimas kitai šaliai, kad sutartis bus sudaroma pagal standartines sąlygas, su kuriomis galima susipažinti nurodytoje vietoj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siūlymas atsiųsti sąlygų kopij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kėtos (siurprizinės) sutarčių standartinės sąlygos – t.y., tokios, kurių kita šalis negalėjo protingai tikėtis būsiant sutartyje</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elaikomos tokios, su kuriomis aiškiai sutiko, kai jos tai šaliai buvo tinkamai atskleistos</a:t>
            </a:r>
            <a:endParaRPr b="0" lang="en-US" sz="2000" spc="-1" strike="noStrike">
              <a:solidFill>
                <a:srgbClr val="003366"/>
              </a:solidFill>
              <a:latin typeface="Arial"/>
            </a:endParaRPr>
          </a:p>
          <a:p>
            <a:pPr lvl="2" marL="1131480" indent="-22608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Pvz., atskiro mygtuko paspaudimas</a:t>
            </a:r>
            <a:endParaRPr b="0" lang="en-US" sz="18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a:t>
            </a:r>
            <a:r>
              <a:rPr b="0" lang="en-US" sz="2000" spc="-1" strike="noStrike">
                <a:solidFill>
                  <a:srgbClr val="003366"/>
                </a:solidFill>
                <a:latin typeface="Arial"/>
              </a:rPr>
              <a:t>6.186</a:t>
            </a:r>
            <a:r>
              <a:rPr b="0" lang="lt-LT" sz="2000" spc="-1" strike="noStrike">
                <a:solidFill>
                  <a:srgbClr val="003366"/>
                </a:solidFill>
                <a:latin typeface="Arial"/>
              </a:rPr>
              <a:t> straipsnis</a:t>
            </a:r>
            <a:endParaRPr b="0" lang="en-US" sz="20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ąlygos aiškinamos pasiūliusios (parengusios) šalies nenaudai</a:t>
            </a:r>
            <a:r>
              <a:rPr b="0" lang="en-US" sz="2400" spc="-1" strike="noStrike">
                <a:solidFill>
                  <a:srgbClr val="003366"/>
                </a:solidFill>
                <a:latin typeface="Arial"/>
              </a:rPr>
              <a:t> </a:t>
            </a:r>
            <a:endParaRPr b="0" lang="en-US" sz="2400" spc="-1" strike="noStrike">
              <a:solidFill>
                <a:srgbClr val="003366"/>
              </a:solidFill>
              <a:latin typeface="Arial"/>
            </a:endParaRPr>
          </a:p>
          <a:p>
            <a:pPr lvl="1" marL="735480" indent="-28296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a:t>
            </a:r>
            <a:r>
              <a:rPr b="0" lang="en-US" sz="2000" spc="-1" strike="noStrike">
                <a:solidFill>
                  <a:srgbClr val="003366"/>
                </a:solidFill>
                <a:latin typeface="Arial"/>
              </a:rPr>
              <a:t>6.193 </a:t>
            </a:r>
            <a:r>
              <a:rPr b="0" lang="lt-LT" sz="2000" spc="-1" strike="noStrike">
                <a:solidFill>
                  <a:srgbClr val="003366"/>
                </a:solidFill>
                <a:latin typeface="Arial"/>
              </a:rPr>
              <a:t>straipsni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orm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dary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ykdy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Bendrųjų sąlygų galiojimas</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sminė šalių nelygybė:</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Šalis gali atsisakyti sutarties ar atskiros jos sąlygos, jeigu sutarties sudarymo metu sutartis ar atskira jos sąlyga nepagrįstai suteikė kitai šaliai perdėtą pranašum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VPĮ 9 ir 10 straipsnia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pecifinės sudarymo taisyklės</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ykdymas</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etiesioginė elektroninė komercij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radiciniu “materialiu” būd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iesioginė elektroninė komercij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u būd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Unicode MS"/>
              </a:rPr>
              <a:t>Sutartis – dviejų ar daugiau asmenų susitarimas sukurti, pakeisti ar nutraukti civilinius teisinius santykius, kai vienas ar keli asmenys įsipareigoja kitam asmeniui ar asmenims atlikti tam tikrus veiksmus (ar susilaikyti nuo tam tikrų veiksmų atlikimo), o pastarieji įgyja reikalavimo teisę</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Unicode MS"/>
              </a:rPr>
              <a:t>E</a:t>
            </a:r>
            <a:r>
              <a:rPr b="0" lang="fr-FR" sz="2400" spc="-1" strike="noStrike">
                <a:solidFill>
                  <a:srgbClr val="003366"/>
                </a:solidFill>
                <a:latin typeface="Arial Unicode MS"/>
              </a:rPr>
              <a:t>lektroninė sutarties forma - tai sutartis tarp</a:t>
            </a:r>
            <a:r>
              <a:rPr b="0" lang="lt-LT" sz="2400" spc="-1" strike="noStrike">
                <a:solidFill>
                  <a:srgbClr val="003366"/>
                </a:solidFill>
                <a:latin typeface="Arial Unicode MS"/>
              </a:rPr>
              <a:t> šalių,</a:t>
            </a:r>
            <a:r>
              <a:rPr b="0" lang="fr-FR" sz="2400" spc="-1" strike="noStrike">
                <a:solidFill>
                  <a:srgbClr val="003366"/>
                </a:solidFill>
                <a:latin typeface="Arial Unicode MS"/>
              </a:rPr>
              <a:t> sudaryta</a:t>
            </a:r>
            <a:r>
              <a:rPr b="0" lang="lt-LT" sz="2400" spc="-1" strike="noStrike">
                <a:solidFill>
                  <a:srgbClr val="003366"/>
                </a:solidFill>
                <a:latin typeface="Arial Unicode MS"/>
              </a:rPr>
              <a:t> </a:t>
            </a:r>
            <a:r>
              <a:rPr b="0" lang="fr-FR" sz="2400" spc="-1" strike="noStrike">
                <a:solidFill>
                  <a:srgbClr val="003366"/>
                </a:solidFill>
                <a:latin typeface="Arial Unicode MS"/>
              </a:rPr>
              <a:t>keitimosi elektroniniais duomenų pranešimais būd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y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mybė veikti per elektroninius agentu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Kompiuterių programos, priimančios sprendimus ir sudarančios sutarti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Šalių anonimišku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okiu atveju n</a:t>
            </a:r>
            <a:r>
              <a:rPr b="0" lang="en-US" sz="2000" spc="-1" strike="noStrike">
                <a:solidFill>
                  <a:srgbClr val="003366"/>
                </a:solidFill>
                <a:latin typeface="Arial"/>
              </a:rPr>
              <a:t>egalima remtis liudyto</a:t>
            </a:r>
            <a:r>
              <a:rPr b="0" lang="lt-LT" sz="2000" spc="-1" strike="noStrike">
                <a:solidFill>
                  <a:srgbClr val="003366"/>
                </a:solidFill>
                <a:latin typeface="Arial"/>
              </a:rPr>
              <a:t>jų parodymais sandorio sudarymo faktui įrodyti</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ais atvejais, kai šalių statusas suponuoja specifines sąlygas, statusas nustatomas iš kitų aplinkybių (pvz., pačios šalies nurodymo)</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sunkintas sandorio įgyvendinamum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ys</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al</a:t>
            </a:r>
            <a:r>
              <a:rPr b="0" lang="en-GB" sz="2800" spc="-1" strike="noStrike">
                <a:solidFill>
                  <a:srgbClr val="003366"/>
                </a:solidFill>
                <a:latin typeface="Arial"/>
              </a:rPr>
              <a:t> IVP</a:t>
            </a:r>
            <a:r>
              <a:rPr b="0" lang="lt-LT" sz="2800" spc="-1" strike="noStrike">
                <a:solidFill>
                  <a:srgbClr val="003366"/>
                </a:solidFill>
                <a:latin typeface="Arial"/>
              </a:rPr>
              <a:t>Į 11 straipsnio 1 dalį ir UNCITRAL Pavyzdinį elektroninės komercijos įstatymą duomenų pranešimas priskiriamas šaliai, kai jis atsiųs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čios šal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galiot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formacinės sistemos, suprogramuotos šalies ar šalies vardu veikti automatišk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66"/>
                </a:solidFill>
                <a:latin typeface="Arial"/>
              </a:rPr>
              <a:t>Rašytin</a:t>
            </a:r>
            <a:r>
              <a:rPr b="0" lang="lt-LT" sz="2800" spc="-1" strike="noStrike">
                <a:solidFill>
                  <a:srgbClr val="003366"/>
                </a:solidFill>
                <a:latin typeface="Arial"/>
              </a:rPr>
              <a:t>ės formos reikalavimai</a:t>
            </a:r>
            <a:r>
              <a:rPr b="0" lang="fr-FR"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žtikrinta teksto apsauga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ma identifikuoti parašą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uri būti pakankamai duomenų sandorio šalims nustatyti (kitaip negalima remtis liudytojų parodymais sandorio sudarymo faktui įrodyti)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CK 1.73, 6.192 straipsniai</a:t>
            </a:r>
            <a:r>
              <a:rPr b="0" lang="en-US" sz="2000" spc="-1" strike="noStrike">
                <a:solidFill>
                  <a:srgbClr val="003366"/>
                </a:solidFill>
                <a:latin typeface="Arial"/>
              </a:rPr>
              <a:t>,</a:t>
            </a:r>
            <a:r>
              <a:rPr b="0" lang="lt-LT" sz="2000" spc="-1" strike="noStrike">
                <a:solidFill>
                  <a:srgbClr val="003366"/>
                </a:solidFill>
                <a:latin typeface="Arial"/>
              </a:rPr>
              <a:t> 1.76 straipsnio </a:t>
            </a:r>
            <a:r>
              <a:rPr b="0" lang="en-US" sz="2000" spc="-1" strike="noStrike">
                <a:solidFill>
                  <a:srgbClr val="003366"/>
                </a:solidFill>
                <a:latin typeface="Arial"/>
              </a:rPr>
              <a:t>2 </a:t>
            </a:r>
            <a:r>
              <a:rPr b="0" lang="lt-LT" sz="2000" spc="-1" strike="noStrike">
                <a:solidFill>
                  <a:srgbClr val="003366"/>
                </a:solidFill>
                <a:latin typeface="Arial"/>
              </a:rPr>
              <a:t>dali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sus reikalavimus tenkina tik saugus elektroninis parašas (ypač </a:t>
            </a:r>
            <a:r>
              <a:rPr b="0" lang="en-US" sz="2000" spc="-1" strike="noStrike">
                <a:solidFill>
                  <a:srgbClr val="003366"/>
                </a:solidFill>
                <a:latin typeface="Arial"/>
              </a:rPr>
              <a:t>1 </a:t>
            </a:r>
            <a:r>
              <a:rPr b="0" lang="lt-LT" sz="2000" spc="-1" strike="noStrike">
                <a:solidFill>
                  <a:srgbClr val="003366"/>
                </a:solidFill>
                <a:latin typeface="Arial"/>
              </a:rPr>
              <a:t>reikalavim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utartis paprastai nėra negaliojanti, jei ji nėra rašytinė</a:t>
            </a:r>
            <a:endParaRPr b="0" lang="en-US" sz="2400" spc="-1" strike="noStrike">
              <a:solidFill>
                <a:srgbClr val="003366"/>
              </a:solidFill>
              <a:latin typeface="Arial"/>
            </a:endParaRPr>
          </a:p>
          <a:p>
            <a:pPr lvl="1" marL="705600" indent="-2714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Jei teisės aktai reikalauja, kad būtų rašytinė, negalima remtis liudytojų parodymais sandorio sudarymo ar įvykdymo faktui įrodyti. Šios nuostatos teismas gali netaikyti, jei tai prieštarautų sąžiningumo, teisingumo ir protingumo principams, būtent kai:</a:t>
            </a:r>
            <a:endParaRPr b="0" lang="en-US" sz="20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ra kitokių rašytinių, nors ir netiesioginių sandorio sudarymo įrodymų;</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Sandorio sudarymo faktą patvirtinantys rašytiniai įrodymai yra prarasti ne dėl šalies kaltės;</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Atsižvelgiant į sandorio sudarymo aplinkybes, objektyviai nebuvo įmanoma sandorio įforminti raštu;</a:t>
            </a:r>
            <a:endParaRPr b="0" lang="en-US" sz="1800" spc="-1" strike="noStrike">
              <a:solidFill>
                <a:srgbClr val="003366"/>
              </a:solidFill>
              <a:latin typeface="Arial"/>
            </a:endParaRPr>
          </a:p>
          <a:p>
            <a:pPr lvl="2" marL="1085760" indent="-21708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Atsižvelgiant į šalių tarpusavio santykius, sandorio prigimtį bei kitas svarbias bylai aplinkybes, draudimas panaudoti liudytojų parodymus prieštarautų sąžiningumo, teisingumo ir protingumo principam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orma</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nustatytais atvejais formos nesilaikymas sutartį daro negaliojanči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tys, kurioms nustatyta notarinė forma ar privaloma teisinė registracija, elektroninėmis priemonėmis nesudarom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aktinis CK nuostatų taikym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ŪM Elektroninės komercijos reglamentas (abejotina gal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33cccc"/>
                </a:solidFill>
                <a:latin typeface="Arial"/>
              </a:rPr>
              <a:t>Sudary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cccc"/>
                </a:solidFill>
                <a:latin typeface="Arial"/>
              </a:rPr>
              <a:t>Ofert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Pasiūlymas sudaryti sutartį </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3cccc"/>
                </a:solidFill>
                <a:latin typeface="Arial"/>
              </a:rPr>
              <a:t>pakankamai apibūdintas ir išreiškia ketinimą būti sutarties saistomam ir įsipareigojančiam akcepto atveju</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Įsigalioja akceptantui ją gav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Vieša oferta (CK v. Vienos sutarti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cccc"/>
                </a:solidFill>
                <a:latin typeface="Arial"/>
              </a:rPr>
              <a:t>Akcept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3cccc"/>
                </a:solidFill>
                <a:latin typeface="Arial"/>
              </a:rPr>
              <a:t>Pasiūlymo sudaryti sutartį priėm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omas</cp:lastModifiedBy>
  <dcterms:modified xsi:type="dcterms:W3CDTF">2006-11-10T12:18:48Z</dcterms:modified>
  <cp:revision>87</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36225756</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